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44F4-76A7-44DC-9D5E-8176776A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874D-0759-4D41-8251-6FD6AED7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6B6B-C10E-4994-AC2D-3AF4DBF2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88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752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88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752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12D3-AC39-48AF-8F95-6600A514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F3DD-2D45-4E8D-ADAA-EA9D6048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25DE-8FE8-45AC-8E06-53E791AA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BC0E-5C07-4DF7-B91B-6A201BED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FECC-59E3-48C7-B2E5-5A4C9B98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B9A5-B2EF-4032-B9E0-905B98FD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CEF1-1E74-4FDF-B9AD-70B55549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CEA2-F36F-4C49-8056-55283C2C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82B-4512-4931-A182-98A31A15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9B5A-0A59-4A9A-B62E-3063C90E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C1D8-D9F6-4EEC-B11D-67F4B6F7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D498-E588-47AA-9180-C696D997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E7D2-6FAD-4B5E-B527-6175B2A5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288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752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288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752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3317-0019-4B52-8A54-69FFCC9B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3D2D-A098-48F5-83BD-8117EBEA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751-D388-4649-B800-84261EDB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63E-53E3-4FC7-9643-7A5FE0EB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0F9-78BE-4086-9E18-6EC35006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4EA5-4342-42E2-9BE1-6869223F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2239-770B-44DA-868D-6692CC6F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D1C1-4047-49E5-968C-F838F4FD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E207-8592-40FB-BABD-82847A01376B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3D27-F506-4FF0-B3FE-137626EA9476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Impact"/>
              </a:rPr>
              <a:t>Empires</a:t>
            </a: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econditio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38560" cy="4048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134040" y="0"/>
            <a:ext cx="300996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What is Empire?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 politically unified state in which one people dominate its neighbor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 empire is a nation which has within its borders other formerly independent n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sually by military force, but it can be religion, diplomacy, and trad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Rise of Empires: Necessary Condition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 strong military (probably created to fight a nearby rival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ong central government (not always an emperor but unified power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trol of several resourc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 other powerful empires nearby to crush the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Why Empire?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240" y="1294920"/>
            <a:ext cx="8915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deology – a belief system which encourages conquest (sons of Mar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reed – captured areas will yield riches to conquero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quest is the best defens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Peace within the empire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ax = Peace perio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ng distance trade is safely conducte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sources (money &amp; energy) can be redirected towards building or social need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ultural Diffusion booms!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auses for Collapse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oo big &amp; military is too expensiv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oor leadershi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conomic problem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tack: from outside or inside the empir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s of hegemony: unable to keep authority over conquere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Impact of Empire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ffuses cultur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ssimilates the conquere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ilds infrastructur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uenzi</dc:creator>
  <dc:description/>
  <dc:language>en-US</dc:language>
  <cp:lastModifiedBy>Will Hall</cp:lastModifiedBy>
  <dcterms:modified xsi:type="dcterms:W3CDTF">2009-09-23T16:32:37Z</dcterms:modified>
  <cp:revision>13</cp:revision>
  <dc:subject/>
  <dc:title>Empir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81033</vt:lpwstr>
  </property>
</Properties>
</file>